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C1AF17-8737-43A7-A19E-27FC24E3E7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F11670-EF32-41FC-A210-446B7EF35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4B1F51-0686-47DA-9AFD-AF7029FDA7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6D9A739-3799-497C-9A0A-3FD67DB6A5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1A6B44-04DF-4217-9FCC-25B7DFC908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61AC9C-86BB-409E-AD0D-666B92D2D8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3486EE-D4A6-41BD-8EBB-FE21BF97CC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7C69C0-0698-41FE-8289-FC29CA7A93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EBFA63-46E8-4CA3-90E9-94EECF3E92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142A96-80AE-4EDA-A0E3-DFCFC1812A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D38DA3A-B9B8-4398-B5A7-ED2948366C0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9CE83C-C45A-4976-B660-525C396AC50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A6EC1E-29B0-45CB-A0E2-82DD6E116A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762867-B29A-4D8A-A6AB-9FFCADFE57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14B245-DB57-4264-8F86-F7D2B8BB0D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3BA243-882C-46F2-8CFB-48751A1A80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2DD9D1-BDC4-4FCE-B091-0D63FA25D6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F70D4C5-8694-4387-A03D-B368A195D0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10F689-91D8-414F-BFF4-C73B719BF8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DC5681-8CE6-47FF-98B4-FE9BA78B80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FE9928B-FE13-4473-B52B-E7B1C907C1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F0135BC-941A-41D5-A661-FA969CB59B1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C90280-A5D5-46C3-ABA3-C6954EBC51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30DBCB-38B3-461A-8572-4715F15A6A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DC54CD-D3F9-4554-BD29-434CBD5E3B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1C80DD-D9EA-404E-8FD3-E1CBF488C3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4D8C570-BB2F-4450-ADA6-2381C23D01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2BED0A-E334-4559-A000-D55CE7F99C4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008C2B-4B0B-4C49-A8C9-E2E70C806C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B9E5AF-D743-413B-BF5A-22B60344CE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18080" cy="346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56B172-93E3-4445-8B78-440241B2A4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25E6BB-0D39-4C98-B2C4-EBFDFF4570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B8BA25-AF17-43AB-A3B5-C01E5512B8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0E3271-C49F-492B-9D2F-3DB4DEF71F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6D9DB8-44CF-4EDA-A303-7F9D1DDCAC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6D6008C-9F27-4E2B-A445-640095EFC0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D27D95-2B25-4C1F-9765-469134F278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E1CA1C-9F53-44B5-B145-55A2998E6EE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503F81-9650-4283-A9F6-EC820BB568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08AAC09-7B3A-4DC5-8F1A-29B4ED04BF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5E1C9E-9EFF-4516-A907-66D897BE7B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99F597-C57E-43D3-B4D3-5471CB4BF26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D5DDD6-8AE4-4BD4-8E21-556516E715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AF4D21-3CB8-41AE-8F23-8B1BE45E58C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579600" y="2835360"/>
            <a:ext cx="5843520" cy="5900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Img"/>
          </p:nvPr>
        </p:nvSpPr>
        <p:spPr>
          <a:xfrm>
            <a:off x="1982880" y="622440"/>
            <a:ext cx="2814480" cy="2111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46486C-B54A-4472-97AB-45F1A8CB93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39600" y="4408200"/>
            <a:ext cx="5113080" cy="419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306A0D-1A3C-41B5-8DAC-C34D4FC57E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D83E49-3369-46EF-B08D-A58CB6B2F5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D3A3331-E420-49F5-A81A-EE1D320E6A7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318CAAB-864B-4BB5-8957-5D8E469BA4E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4720" y="9266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BE Estimat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historical object data, determine the size in LOC/method of each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y by the number of methods to get the estimated object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which objects will be added to the reuse library and note as “New Reused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3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objects do not fit an existing type, they are frequently composi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that they are sufficiently refi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ine those that are not elemental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 for new object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ing Objects - Example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82560" y="1552680"/>
            <a:ext cx="7559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able 5.8, three new objects are identified with their numbers of methods, relative size, and LOC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  Methods   Size    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ri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        13          M        11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ar Syste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.          8           L        19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          3           L         4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1940400" y="3540240"/>
            <a:ext cx="4434840" cy="780120"/>
            <a:chOff x="1940400" y="3540240"/>
            <a:chExt cx="4434840" cy="780120"/>
          </a:xfrm>
        </p:grpSpPr>
        <p:sp>
          <p:nvSpPr>
            <p:cNvPr id="265" name="Rectangle 4"/>
            <p:cNvSpPr/>
            <p:nvPr/>
          </p:nvSpPr>
          <p:spPr>
            <a:xfrm>
              <a:off x="1940400" y="3981240"/>
              <a:ext cx="41216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How were these values determined?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Arc 5"/>
            <p:cNvSpPr/>
            <p:nvPr/>
          </p:nvSpPr>
          <p:spPr>
            <a:xfrm>
              <a:off x="5994360" y="3540240"/>
              <a:ext cx="380880" cy="533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33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ing Objects - Example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reused objects are also shown in table 5.8, page 12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to be put in the reuse library are identified by an asterisk, such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inked l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modified reused objec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    7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entry    9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 is an existing 73 LOC object with three added methods of 49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program size consist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-developed code (adjusted with the regression paramet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code from the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ode from prior versions, less dele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 developed code consist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 (BA): additions to th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(NO): newly develop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code (M): base LOC that are chan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 developed code is referred to as estimated object LOC (E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2057400" y="4091040"/>
            <a:ext cx="4792680" cy="1762200"/>
            <a:chOff x="2057400" y="4091040"/>
            <a:chExt cx="4792680" cy="1762200"/>
          </a:xfrm>
        </p:grpSpPr>
        <p:sp>
          <p:nvSpPr>
            <p:cNvPr id="272" name="Rectangle 3"/>
            <p:cNvSpPr/>
            <p:nvPr/>
          </p:nvSpPr>
          <p:spPr>
            <a:xfrm>
              <a:off x="2057400" y="4091040"/>
              <a:ext cx="4792680" cy="176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4"/>
                <p:cNvSpPr txBox="1"/>
                <p:nvPr/>
              </p:nvSpPr>
              <p:spPr>
                <a:xfrm>
                  <a:off x="2230560" y="4762440"/>
                  <a:ext cx="394812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ew</m:t>
                      </m:r>
                      <m:r>
                        <m:t xml:space="preserve">∧</m:t>
                      </m:r>
                      <m:r>
                        <m:rPr>
                          <m:lit/>
                          <m:nor/>
                        </m:rPr>
                        <m:t xml:space="preserve">Change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5"/>
                <p:cNvSpPr txBox="1"/>
                <p:nvPr/>
              </p:nvSpPr>
              <p:spPr>
                <a:xfrm>
                  <a:off x="2230560" y="4229280"/>
                  <a:ext cx="20923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6"/>
                <p:cNvSpPr txBox="1"/>
                <p:nvPr/>
              </p:nvSpPr>
              <p:spPr>
                <a:xfrm>
                  <a:off x="2230560" y="5295960"/>
                  <a:ext cx="25495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im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estimated new and changed LOC (N) from the estimated object LOC (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= BA+NO+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linear regression to calcul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01720" y="1527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data on each previously developed progr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x values, use estimated object LOC (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y values, use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 in each finished program for siz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otal development time for each finished program for tim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used from the reuse library should be counted and included in the total LOC siz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ode consists of LOC from a previously developed program version or modified code from the program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base code is a form of reuse, only unmodified code from the reuse library is counted as reused LOC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Estimat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d estimate consists of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ew and changed LOC calculated with the size 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 upper prediction interval (UPI) and lower prediction interval (LPI) for the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C, considering new, base, reused, deleted, and modifi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ed new reuse LOC to be added to the reuse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Estimat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d estimate also includes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development time calculated with the time 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 upper prediction interval (UPI) and lower prediction interval (LPI) for the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500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program (B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695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d 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(M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 (B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: NO = 115+197+49 =     36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program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16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ze regression parameters to calculate new and changed LOC (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62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: E = BA + NO + M = 366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and changed: N = 62 + 1.3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66 = 538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: T = 538 + 695 - 5 + 169 = 1397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total new reuse = 49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2046240" y="2235240"/>
            <a:ext cx="4635720" cy="560520"/>
            <a:chOff x="2046240" y="2235240"/>
            <a:chExt cx="4635720" cy="560520"/>
          </a:xfrm>
        </p:grpSpPr>
        <p:pic>
          <p:nvPicPr>
            <p:cNvPr id="291" name="Picture 4" descr=""/>
            <p:cNvPicPr/>
            <p:nvPr/>
          </p:nvPicPr>
          <p:blipFill>
            <a:blip r:embed="rId1"/>
            <a:stretch/>
          </p:blipFill>
          <p:spPr>
            <a:xfrm>
              <a:off x="2046240" y="2235240"/>
              <a:ext cx="4635720" cy="560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2" name="Object 5"/>
                <p:cNvSpPr txBox="1"/>
                <p:nvPr/>
              </p:nvSpPr>
              <p:spPr>
                <a:xfrm>
                  <a:off x="2120760" y="2302560"/>
                  <a:ext cx="4488120" cy="42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ew</m:t>
                      </m:r>
                      <m:r>
                        <m:t xml:space="preserve">∧</m:t>
                      </m:r>
                      <m:r>
                        <m:rPr>
                          <m:lit/>
                          <m:nor/>
                        </m:rPr>
                        <m:t xml:space="preserve">Change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time regression parameters to calculate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8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time = 108 + 2.95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66 = 1186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1857240" y="2211480"/>
            <a:ext cx="5016600" cy="672840"/>
            <a:chOff x="1857240" y="2211480"/>
            <a:chExt cx="5016600" cy="672840"/>
          </a:xfrm>
        </p:grpSpPr>
        <p:pic>
          <p:nvPicPr>
            <p:cNvPr id="296" name="Picture 5" descr=""/>
            <p:cNvPicPr/>
            <p:nvPr/>
          </p:nvPicPr>
          <p:blipFill>
            <a:blip r:embed="rId1"/>
            <a:stretch/>
          </p:blipFill>
          <p:spPr>
            <a:xfrm>
              <a:off x="1857240" y="2211480"/>
              <a:ext cx="5016600" cy="672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7" name="Object 6"/>
                <p:cNvSpPr txBox="1"/>
                <p:nvPr/>
              </p:nvSpPr>
              <p:spPr>
                <a:xfrm>
                  <a:off x="1930320" y="2273040"/>
                  <a:ext cx="486252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velopmentTim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Tim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Time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e the 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1536840"/>
            <a:ext cx="78278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rediction range for size an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upper and lower prediction interval (UPI/LPI) for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I = N + Range = 538 + 235 = 77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I = N - Range (or 0) = 538 - 235 = 30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range for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I = Time + Range = 1186 +431 = 1617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I = Time - Range (or 0) = 1186 - 431 = 775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fter Develop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13960" y="1539720"/>
            <a:ext cx="7651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, measure and record actual siz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, deleted, and modifi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n object w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but not developed, then its actual size is 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ed but not planned, then its planned size is 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paring to Use PROB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PROBE for size and time estimates, you will need the following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rical data on objects, divided into ty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factors for the relative sizes of each object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arameters for predicting size and time based on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rical data on estimated and actual program size and development time for calculating regression parameters and prediction interv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Data on Ob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size is highly var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ced by design sty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ing by number of methods can hel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k basic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,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/O, files, dis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, text, calc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-up, error hand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91064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for New Ob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eek size ranges for each type that will help you judge the sizes of new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se size r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mean - 2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devi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mean -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mean +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mean + 2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devi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section 5.5 (pages 125-134) in the textbook for detai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6120" y="458640"/>
            <a:ext cx="7997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Normal Distribution with Size Rang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09" name="Picture 1043" descr=""/>
          <p:cNvPicPr/>
          <p:nvPr/>
        </p:nvPicPr>
        <p:blipFill>
          <a:blip r:embed="rId1"/>
          <a:srcRect l="0" t="0" r="0" b="22687"/>
          <a:stretch/>
        </p:blipFill>
        <p:spPr>
          <a:xfrm>
            <a:off x="1100160" y="1847880"/>
            <a:ext cx="697392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g-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ize ranges assume that the object data are normally distribu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data are log-normally distributed, take the log of the data before making the size range calcu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after computing the size ranges, take the antilog to get the factors in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688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to use PRO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egorizing obj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ression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622440" y="1262160"/>
          <a:ext cx="735156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62160"/>
                    <a:ext cx="735156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Log-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the following data on an object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hree methods, 39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five methods, 127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wo methods, 64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hree methods, 28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one method, 2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wo methods, 44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C per method is 13, 25.4, 32, 9.333, 23, 2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gs of these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565, 3.235, 3.466, 2.234, 3.135, 3.09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e is 2.95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0.42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g values of the size rang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2.95 + 2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21 = 3.7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2.95 + 0.421 = 3.3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2.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2.95 - 0.421= 2.5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2.95 - 2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21 = 2.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se log size ranges, the LOC ranges are obtained by taking the antilo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exp(3.79) = 44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exp(3.37) = 29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exp(2.95) = 19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exp(2.53) = 12.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exp(2.11) = 8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 these calculations for every object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++ Object Size Ran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826200" y="1927080"/>
            <a:ext cx="637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890800" y="1909800"/>
            <a:ext cx="43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782040" y="1922400"/>
            <a:ext cx="42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5029200" y="1928880"/>
            <a:ext cx="33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038120" y="1909800"/>
            <a:ext cx="30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6095880" y="1908000"/>
            <a:ext cx="28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816120" y="2481120"/>
            <a:ext cx="1256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816120" y="3070080"/>
            <a:ext cx="60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853200" y="3700440"/>
            <a:ext cx="435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827640" y="4272120"/>
            <a:ext cx="705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823320" y="4957920"/>
            <a:ext cx="794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-up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840240" y="5605560"/>
            <a:ext cx="58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2848680" y="2462040"/>
            <a:ext cx="456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34            5.13         11.25          24.66      54.0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832120" y="3070080"/>
            <a:ext cx="456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0            4.79           8.84          16.31      30.0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848320" y="36813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.01           12.06         16.15          21.62      28.9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2810520" y="430992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.55           10.98         15.98          23.25      33.8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2812680" y="49197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88            5.04           6.56            8.53       11.0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831760" y="56055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75            8.00          17.07          36.41      77.6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4327560" y="1536840"/>
            <a:ext cx="175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C per 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2922480" y="1841400"/>
            <a:ext cx="438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tistically-Based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uses historical data, linear regression, and the prediction interval to produce an estimate of known accurac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rovides the best fit, or minimum variance, of a line to thes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 of the data is used to determine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i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PROBE, estimates are based on one of four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either regression method, you ne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asonable amount of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that corre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914400" y="1955880"/>
            <a:ext cx="6705720" cy="1434600"/>
            <a:chOff x="914400" y="1955880"/>
            <a:chExt cx="6705720" cy="1434600"/>
          </a:xfrm>
        </p:grpSpPr>
        <p:sp>
          <p:nvSpPr>
            <p:cNvPr id="347" name="Rectangle 5"/>
            <p:cNvSpPr/>
            <p:nvPr/>
          </p:nvSpPr>
          <p:spPr>
            <a:xfrm>
              <a:off x="914400" y="1955880"/>
              <a:ext cx="6705720" cy="143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tho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ression with estimated object LOC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ression with estimated new and changed LOC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 averaging metho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gineering judgemen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6"/>
            <p:cNvSpPr/>
            <p:nvPr/>
          </p:nvSpPr>
          <p:spPr>
            <a:xfrm>
              <a:off x="922320" y="2263320"/>
              <a:ext cx="669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2600" y="512640"/>
            <a:ext cx="8038800" cy="58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500040" y="469800"/>
            <a:ext cx="8143920" cy="59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2297160" y="2247840"/>
            <a:ext cx="3429000" cy="2362320"/>
            <a:chOff x="2297160" y="2247840"/>
            <a:chExt cx="3429000" cy="2362320"/>
          </a:xfrm>
        </p:grpSpPr>
        <p:sp>
          <p:nvSpPr>
            <p:cNvPr id="352" name="Rectangle 3"/>
            <p:cNvSpPr/>
            <p:nvPr/>
          </p:nvSpPr>
          <p:spPr>
            <a:xfrm>
              <a:off x="2297160" y="2247840"/>
              <a:ext cx="34290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4"/>
                <p:cNvSpPr txBox="1"/>
                <p:nvPr/>
              </p:nvSpPr>
              <p:spPr>
                <a:xfrm>
                  <a:off x="2463840" y="2324160"/>
                  <a:ext cx="3066840" cy="22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vg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vg</m:t>
                                      </m:r>
                                    </m:sub>
                                  </m:sSub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vg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g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g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gression Paramet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ression parameters are calculated using the following formul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the appropriate historical data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Method Upd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91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sions to the original PROBE method are incorporated into the August 1997 reprint of the textbook. The revised form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36, page 679, PROBE estimating scri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39, page 683, 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40, page 684, size estimating template in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5.8, page 120, size estimating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project plan summaries from PSP1 to PSP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arlier version of the textbook, remember to update i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A: Regression with Estimated Object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7840" y="1765080"/>
            <a:ext cx="799308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A uses the relationship between estimated object LOC 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riteria for using this metho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data points that are correlated (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regression parameters (see table C36, page 67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on of all programs through 6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B: Regression with Estimated New and Changed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17200" y="1778040"/>
            <a:ext cx="8056440" cy="4317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B uses the relationship between estimated new and changed LOC 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riteria for using this metho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data points that are correlated (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regression parameters (see table C36, page 67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on of all programs through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C: Averag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C uses a ratio to adjust size or time based on historical aver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ing method is easy to use and requires only one data poi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s assume that there is no fixed overhea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e method is described in table C36 (page 679), PROBE estimating scrip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D: Engineering Judg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D is used in the absence of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judgement to estimate new and changed LOC from estimated objec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judgement to estimate the required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D is used when methods A, B, and C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 provides a likely range around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90% prediction interval gives the range within which 90% of the estimates will likely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a forecast, only an expect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pplies only if the estimate behaves lik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calculated from the same data used to calculate the regression paramet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27" descr=""/>
          <p:cNvPicPr/>
          <p:nvPr/>
        </p:nvPicPr>
        <p:blipFill>
          <a:blip r:embed="rId1"/>
          <a:stretch/>
        </p:blipFill>
        <p:spPr>
          <a:xfrm>
            <a:off x="538200" y="474840"/>
            <a:ext cx="8067600" cy="59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method is a structured way to make softwar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uses your personal siz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statistically sound range within which the actual program size is most likely to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34092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Re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432400" y="3998880"/>
            <a:ext cx="131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 for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r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75160" y="2643120"/>
            <a:ext cx="2067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 until th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parts ar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ight siz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60760" y="1565280"/>
            <a:ext cx="24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requirement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73720" y="6066000"/>
            <a:ext cx="132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332160" y="1886040"/>
            <a:ext cx="1440" cy="1792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333600" y="2451240"/>
            <a:ext cx="0" cy="1807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333600" y="2998800"/>
            <a:ext cx="0" cy="198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333600" y="3583080"/>
            <a:ext cx="1800" cy="1936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3333600" y="4713120"/>
            <a:ext cx="0" cy="196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3333600" y="5322960"/>
            <a:ext cx="0" cy="1810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332160" y="5892840"/>
            <a:ext cx="1440" cy="196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3333600" y="4140360"/>
            <a:ext cx="0" cy="198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2317680" y="2085840"/>
            <a:ext cx="2035080" cy="3700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oduce conceptu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2317680" y="2643120"/>
            <a:ext cx="2035080" cy="371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ubdivide the pro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nto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17680" y="3218040"/>
            <a:ext cx="2036880" cy="3855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o the parts resembl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rts in the database?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328840" y="3790800"/>
            <a:ext cx="2036880" cy="3733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lect the database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ost like new on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317680" y="4351320"/>
            <a:ext cx="2035080" cy="379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stimate the new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rt’s relative siz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2317680" y="4930920"/>
            <a:ext cx="2035080" cy="4111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um the estimated size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f the new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2317680" y="5527800"/>
            <a:ext cx="2035080" cy="3873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stimate tot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oduct siz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4343400" y="278136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0" y="384"/>
                </a:moveTo>
                <a:lnTo>
                  <a:pt x="432" y="384"/>
                </a:lnTo>
                <a:lnTo>
                  <a:pt x="432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Freeform 23"/>
          <p:cNvSpPr/>
          <p:nvPr/>
        </p:nvSpPr>
        <p:spPr>
          <a:xfrm>
            <a:off x="4343400" y="4000680"/>
            <a:ext cx="687240" cy="61092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0" y="384"/>
                </a:moveTo>
                <a:lnTo>
                  <a:pt x="432" y="384"/>
                </a:lnTo>
                <a:lnTo>
                  <a:pt x="432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4503240" y="1714680"/>
            <a:ext cx="8305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317680" y="1514520"/>
            <a:ext cx="2035080" cy="371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btain historic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ze data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374920" y="2146320"/>
            <a:ext cx="3632040" cy="2641680"/>
          </a:xfrm>
          <a:prstGeom prst="rect">
            <a:avLst/>
          </a:prstGeom>
          <a:solidFill>
            <a:srgbClr val="33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OBE 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7960" y="433080"/>
            <a:ext cx="7735680" cy="63324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97040"/>
                <a:tab algn="l" pos="3394080"/>
                <a:tab algn="l" pos="5091120"/>
                <a:tab algn="l" pos="6788160"/>
                <a:tab algn="l" pos="8485200"/>
                <a:tab algn="l" pos="10182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48080" y="1411200"/>
            <a:ext cx="143496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548080" y="2259000"/>
            <a:ext cx="1434960" cy="6732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548080" y="3182760"/>
            <a:ext cx="1434960" cy="5972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548080" y="4030560"/>
            <a:ext cx="143496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2548080" y="4878360"/>
            <a:ext cx="1434960" cy="5205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548080" y="5649840"/>
            <a:ext cx="1434960" cy="5209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376880" y="5649840"/>
            <a:ext cx="128412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, resour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6119640" y="5649840"/>
            <a:ext cx="1055880" cy="5209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4452840" y="4878360"/>
            <a:ext cx="1130400" cy="59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4452840" y="4030560"/>
            <a:ext cx="113040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4376880" y="318276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201760" y="168588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303720" y="2103480"/>
            <a:ext cx="0" cy="14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3992400" y="594828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670720" y="594828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6732720" y="3516480"/>
            <a:ext cx="0" cy="212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Line 20"/>
          <p:cNvSpPr/>
          <p:nvPr/>
        </p:nvSpPr>
        <p:spPr>
          <a:xfrm flipH="1">
            <a:off x="5592240" y="3519360"/>
            <a:ext cx="1140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21"/>
          <p:cNvSpPr/>
          <p:nvPr/>
        </p:nvSpPr>
        <p:spPr>
          <a:xfrm flipH="1">
            <a:off x="5592240" y="4405320"/>
            <a:ext cx="1140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22"/>
          <p:cNvSpPr/>
          <p:nvPr/>
        </p:nvSpPr>
        <p:spPr>
          <a:xfrm flipH="1">
            <a:off x="3992400" y="348156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Line 23"/>
          <p:cNvSpPr/>
          <p:nvPr/>
        </p:nvSpPr>
        <p:spPr>
          <a:xfrm flipH="1">
            <a:off x="3975120" y="4405320"/>
            <a:ext cx="4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Line 24"/>
          <p:cNvSpPr/>
          <p:nvPr/>
        </p:nvSpPr>
        <p:spPr>
          <a:xfrm flipH="1">
            <a:off x="3992400" y="5176800"/>
            <a:ext cx="454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3303720" y="302724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3303720" y="387504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3303720" y="4722840"/>
            <a:ext cx="0" cy="14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3303720" y="549432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29"/>
          <p:cNvSpPr/>
          <p:nvPr/>
        </p:nvSpPr>
        <p:spPr>
          <a:xfrm flipH="1">
            <a:off x="2220480" y="591012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5592600" y="5176800"/>
            <a:ext cx="1122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31"/>
          <p:cNvSpPr/>
          <p:nvPr/>
        </p:nvSpPr>
        <p:spPr>
          <a:xfrm>
            <a:off x="7184880" y="5929200"/>
            <a:ext cx="414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Oval 32"/>
          <p:cNvSpPr/>
          <p:nvPr/>
        </p:nvSpPr>
        <p:spPr>
          <a:xfrm>
            <a:off x="947880" y="138276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Oval 33"/>
          <p:cNvSpPr/>
          <p:nvPr/>
        </p:nvSpPr>
        <p:spPr>
          <a:xfrm>
            <a:off x="947880" y="558324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7548480" y="5583240"/>
            <a:ext cx="120672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943560" y="3616200"/>
            <a:ext cx="1152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7545240" y="5011560"/>
            <a:ext cx="1293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37"/>
          <p:cNvSpPr/>
          <p:nvPr/>
        </p:nvSpPr>
        <p:spPr>
          <a:xfrm flipV="1">
            <a:off x="8172360" y="5316480"/>
            <a:ext cx="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38"/>
          <p:cNvSpPr/>
          <p:nvPr/>
        </p:nvSpPr>
        <p:spPr>
          <a:xfrm flipV="1">
            <a:off x="1571760" y="2058840"/>
            <a:ext cx="0" cy="145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39"/>
          <p:cNvSpPr/>
          <p:nvPr/>
        </p:nvSpPr>
        <p:spPr>
          <a:xfrm flipV="1">
            <a:off x="1571760" y="4030560"/>
            <a:ext cx="0" cy="145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Oval 40"/>
          <p:cNvSpPr/>
          <p:nvPr/>
        </p:nvSpPr>
        <p:spPr>
          <a:xfrm>
            <a:off x="6912000" y="1628640"/>
            <a:ext cx="573120" cy="3160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6858000" y="2246400"/>
            <a:ext cx="682560" cy="315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1" lang="en-US" sz="7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1" lang="en-US" sz="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7620120" y="1601640"/>
            <a:ext cx="803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Item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7620120" y="2201760"/>
            <a:ext cx="853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ask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6905160" y="5180040"/>
            <a:ext cx="636840" cy="11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BE Estimat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232080" y="1479600"/>
            <a:ext cx="1185840" cy="48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24280" y="200016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006920" y="1519200"/>
            <a:ext cx="788040" cy="4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95440" y="2239920"/>
            <a:ext cx="4675320" cy="84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nd size object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795680" y="2575080"/>
            <a:ext cx="1039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936880" y="2543040"/>
            <a:ext cx="723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3961080" y="2558880"/>
            <a:ext cx="852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5180760" y="2590920"/>
            <a:ext cx="103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803680" y="3419640"/>
            <a:ext cx="2043000" cy="58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other LO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2813040" y="4292640"/>
            <a:ext cx="2025720" cy="54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 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2819520" y="5129280"/>
            <a:ext cx="2011320" cy="52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cul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824280" y="48718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3824280" y="56865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091680" y="5937120"/>
            <a:ext cx="14922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299200" y="4292640"/>
            <a:ext cx="2025360" cy="54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5305320" y="5129280"/>
            <a:ext cx="2011320" cy="52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cul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6310440" y="48718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4856040" y="4549680"/>
            <a:ext cx="420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5321880" y="5937120"/>
            <a:ext cx="20088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6310440" y="56865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3822840" y="4043520"/>
            <a:ext cx="1440" cy="220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3822840" y="3100320"/>
            <a:ext cx="144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2027160" y="1724040"/>
            <a:ext cx="849240" cy="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ceptual design is need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he requirements to the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the product elements that will produce the desired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size of what will be bui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understood designs, conceptual designs can be done quick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do not understand the design, you do not know enough to make an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possible, select application ent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how many methods each object is likely to cont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type of the object, e.g., data, calculation, file, control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the relative size of each object: very small (VS), small (S), medium (M), large (L), or very large (VL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59:01Z</cp:lastPrinted>
  <dcterms:modified xsi:type="dcterms:W3CDTF">2018-09-06T00:16:39Z</dcterms:modified>
  <cp:revision>109</cp:revision>
  <dc:subject/>
  <dc:title>No Slide Title</dc:title>
</cp:coreProperties>
</file>